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1E2D-E2A9-43B7-B016-A5A658F2D39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7F53-BE34-4266-A8B7-831E5738DEC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9792-C865-45C1-AFA0-62FF9FC28F2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9570-6808-46F2-AFE3-BAEE722E0A8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A003-73F6-46AB-BBA7-1905C47FD94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9EE8-D169-4DCC-84BE-FC1BCAF9CCB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3880-171A-494F-B076-141FB2C76F9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19EA-2D87-455C-B623-D745A52BA3F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4771-E493-45AB-B46F-148BF9EF721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5214-BB83-46F5-8E0D-C3C65DA76B6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D28F-9F5D-4842-9DD3-9322876B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4E4-76EB-4FA0-AB4E-6C3E31BD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7AEA-A196-42A7-B19C-67AC0690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F75D-DE11-4E0A-B2F8-2F5BF753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5D6-9D10-47D8-801E-0F507711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B26F-2F51-4D58-9C8D-36A8FE1F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D0CB-F6FB-42DB-8D24-5A768601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E29D-C5D4-4E5F-9501-DA887E83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C17-B678-478C-B9EC-0FEE9726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C94-A78C-4E60-B3F5-1F892DD8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775A-21B8-44E6-ABBB-7BF22631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A78-19C1-44B3-841D-47401BAA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664B-D7AF-4123-8101-6E13C82FC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57200" y="1447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matramo N- materijalnih tača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22"/>
          <p:cNvGraphicFramePr/>
          <p:nvPr/>
        </p:nvGraphicFramePr>
        <p:xfrm>
          <a:off x="1309680" y="1905120"/>
          <a:ext cx="667692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90512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2" name="Object 23"/>
              <p:cNvSpPr txBox="1"/>
              <p:nvPr/>
            </p:nvSpPr>
            <p:spPr>
              <a:xfrm>
                <a:off x="762120" y="2895480"/>
                <a:ext cx="78040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- kinematicka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holonomn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veza ; reonomna-nestacionarn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Text Box 24"/>
          <p:cNvSpPr/>
          <p:nvPr/>
        </p:nvSpPr>
        <p:spPr>
          <a:xfrm>
            <a:off x="304920" y="38862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tome koeficijenti mogu biti funk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5"/>
              <p:cNvSpPr txBox="1"/>
              <p:nvPr/>
            </p:nvSpPr>
            <p:spPr>
              <a:xfrm>
                <a:off x="762120" y="4267080"/>
                <a:ext cx="3943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8"/>
              <p:cNvSpPr txBox="1"/>
              <p:nvPr/>
            </p:nvSpPr>
            <p:spPr>
              <a:xfrm>
                <a:off x="1770120" y="1943280"/>
                <a:ext cx="3859200" cy="38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δ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δ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δ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δ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δ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δ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δ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δ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263600" y="1677960"/>
          <a:ext cx="546408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677960"/>
                    <a:ext cx="546408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67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sistem od 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jalnih 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ča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971640" y="1989000"/>
                <a:ext cx="4151160" cy="455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t xml:space="preserve">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IMER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Line 6"/>
          <p:cNvSpPr/>
          <p:nvPr/>
        </p:nvSpPr>
        <p:spPr>
          <a:xfrm>
            <a:off x="5543640" y="4761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5580000" y="468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5543640" y="4687920"/>
            <a:ext cx="576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5506920" y="4653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608472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6156360" y="5445000"/>
            <a:ext cx="792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076720" y="591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6912000" y="4257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6119640" y="544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6"/>
          <p:cNvSpPr/>
          <p:nvPr/>
        </p:nvSpPr>
        <p:spPr>
          <a:xfrm>
            <a:off x="5543640" y="5121360"/>
            <a:ext cx="288720" cy="42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7"/>
          <p:cNvSpPr/>
          <p:nvPr/>
        </p:nvSpPr>
        <p:spPr>
          <a:xfrm>
            <a:off x="6119640" y="5697360"/>
            <a:ext cx="397080" cy="125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651640" y="5192640"/>
            <a:ext cx="43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6227640" y="580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6227640" y="501336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948360" y="558972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5867280" y="47242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6624720" y="533700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5327640" y="4508640"/>
            <a:ext cx="181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5"/>
          <p:cNvSpPr/>
          <p:nvPr/>
        </p:nvSpPr>
        <p:spPr>
          <a:xfrm flipH="1">
            <a:off x="5543640" y="4508640"/>
            <a:ext cx="10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5256360" y="4437000"/>
            <a:ext cx="539640" cy="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utativnost operatora "d “  i  "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0"/>
              <p:cNvSpPr txBox="1"/>
              <p:nvPr/>
            </p:nvSpPr>
            <p:spPr>
              <a:xfrm>
                <a:off x="6372360" y="3897360"/>
                <a:ext cx="415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Freeform 4"/>
          <p:cNvSpPr/>
          <p:nvPr/>
        </p:nvSpPr>
        <p:spPr>
          <a:xfrm>
            <a:off x="5327640" y="2732040"/>
            <a:ext cx="2484360" cy="2352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 flipV="1">
            <a:off x="5977080" y="2960280"/>
            <a:ext cx="10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5977080" y="3753000"/>
            <a:ext cx="79056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7020000" y="2960640"/>
            <a:ext cx="720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6732720" y="2960280"/>
            <a:ext cx="10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 flipH="1" flipV="1">
            <a:off x="6012000" y="3789360"/>
            <a:ext cx="504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364000" y="1628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anja k-te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ke u sist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AutoShape 11"/>
          <p:cNvCxnSpPr>
            <a:stCxn id="146" idx="1"/>
            <a:endCxn id="140" idx="5"/>
          </p:cNvCxnSpPr>
          <p:nvPr/>
        </p:nvCxnSpPr>
        <p:spPr>
          <a:xfrm flipH="1" flipV="1" rot="10800000">
            <a:off x="5362920" y="1947960"/>
            <a:ext cx="469080" cy="1948320"/>
          </a:xfrm>
          <a:prstGeom prst="curvedConnector5">
            <a:avLst>
              <a:gd name="adj1" fmla="val -56605"/>
              <a:gd name="adj2" fmla="val 49990"/>
              <a:gd name="adj3" fmla="val -566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12"/>
          <p:cNvSpPr/>
          <p:nvPr/>
        </p:nvSpPr>
        <p:spPr>
          <a:xfrm>
            <a:off x="5580000" y="339264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6335640" y="2600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6840360" y="371628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7848720" y="2997360"/>
            <a:ext cx="61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22"/>
              <p:cNvSpPr txBox="1"/>
              <p:nvPr/>
            </p:nvSpPr>
            <p:spPr>
              <a:xfrm>
                <a:off x="7093080" y="2133720"/>
                <a:ext cx="1220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53" name="AutoShape 24"/>
          <p:cNvCxnSpPr>
            <a:endCxn id="154" idx="0"/>
          </p:cNvCxnSpPr>
          <p:nvPr/>
        </p:nvCxnSpPr>
        <p:spPr>
          <a:xfrm flipH="1">
            <a:off x="7308360" y="2349360"/>
            <a:ext cx="1007280" cy="612000"/>
          </a:xfrm>
          <a:prstGeom prst="bentConnector4">
            <a:avLst>
              <a:gd name="adj1" fmla="val -28208"/>
              <a:gd name="adj2" fmla="val 54267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5" name="Object 25"/>
              <p:cNvSpPr txBox="1"/>
              <p:nvPr/>
            </p:nvSpPr>
            <p:spPr>
              <a:xfrm>
                <a:off x="5796000" y="4581360"/>
                <a:ext cx="4683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6"/>
              <p:cNvSpPr txBox="1"/>
              <p:nvPr/>
            </p:nvSpPr>
            <p:spPr>
              <a:xfrm>
                <a:off x="6119640" y="2960640"/>
                <a:ext cx="3114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Text Box 27"/>
          <p:cNvSpPr/>
          <p:nvPr/>
        </p:nvSpPr>
        <p:spPr>
          <a:xfrm>
            <a:off x="900000" y="2781360"/>
            <a:ext cx="24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8"/>
              <p:cNvSpPr txBox="1"/>
              <p:nvPr/>
            </p:nvSpPr>
            <p:spPr>
              <a:xfrm>
                <a:off x="934920" y="2673360"/>
                <a:ext cx="3816360" cy="39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sSup>
                                  <m:e/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sSup>
                                  <m:e/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p>
                            </m:sSubSup>
                          </m:e>
                        </m:acc>
                      </m:e>
                      <m:e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29"/>
          <p:cNvSpPr/>
          <p:nvPr/>
        </p:nvSpPr>
        <p:spPr>
          <a:xfrm flipV="1">
            <a:off x="863640" y="5121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3600360" y="501300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1"/>
          <p:cNvSpPr/>
          <p:nvPr/>
        </p:nvSpPr>
        <p:spPr>
          <a:xfrm flipH="1">
            <a:off x="1584360" y="5084640"/>
            <a:ext cx="46656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2"/>
          <p:cNvSpPr/>
          <p:nvPr/>
        </p:nvSpPr>
        <p:spPr>
          <a:xfrm flipH="1">
            <a:off x="2879640" y="5049720"/>
            <a:ext cx="43200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3"/>
          <p:cNvSpPr/>
          <p:nvPr/>
        </p:nvSpPr>
        <p:spPr>
          <a:xfrm>
            <a:off x="6985080" y="2960640"/>
            <a:ext cx="32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DINAMIKA KRUTOG TELA I SIST. MATERIJALNIH TAČA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592280"/>
            <a:ext cx="633744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REDIŠTE MASE TELA I SISTEMA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7"/>
          <p:cNvSpPr/>
          <p:nvPr/>
        </p:nvSpPr>
        <p:spPr>
          <a:xfrm>
            <a:off x="1008000" y="2637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oment prvog reda mase tela za tačku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8"/>
          <p:cNvSpPr/>
          <p:nvPr/>
        </p:nvSpPr>
        <p:spPr>
          <a:xfrm>
            <a:off x="1150920" y="3141720"/>
            <a:ext cx="39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9"/>
              <p:cNvSpPr txBox="1"/>
              <p:nvPr/>
            </p:nvSpPr>
            <p:spPr>
              <a:xfrm>
                <a:off x="949320" y="3071880"/>
                <a:ext cx="307008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γ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/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Text Box 40"/>
          <p:cNvSpPr/>
          <p:nvPr/>
        </p:nvSpPr>
        <p:spPr>
          <a:xfrm>
            <a:off x="900000" y="4761000"/>
            <a:ext cx="76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redište mase tela je ona tačka tela za koju je integral (*) jednak nu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1"/>
          <p:cNvSpPr/>
          <p:nvPr/>
        </p:nvSpPr>
        <p:spPr>
          <a:xfrm>
            <a:off x="1008000" y="5229360"/>
            <a:ext cx="23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2"/>
              <p:cNvSpPr txBox="1"/>
              <p:nvPr/>
            </p:nvSpPr>
            <p:spPr>
              <a:xfrm>
                <a:off x="930240" y="5425920"/>
                <a:ext cx="396576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2" name="Group 45"/>
          <p:cNvGrpSpPr/>
          <p:nvPr/>
        </p:nvGrpSpPr>
        <p:grpSpPr>
          <a:xfrm>
            <a:off x="6443640" y="2133720"/>
            <a:ext cx="2490840" cy="2455560"/>
            <a:chOff x="6443640" y="2133720"/>
            <a:chExt cx="2490840" cy="2455560"/>
          </a:xfrm>
        </p:grpSpPr>
        <p:sp>
          <p:nvSpPr>
            <p:cNvPr id="173" name="Text Box 33"/>
            <p:cNvSpPr/>
            <p:nvPr/>
          </p:nvSpPr>
          <p:spPr>
            <a:xfrm>
              <a:off x="6624720" y="418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4"/>
            <p:cNvSpPr/>
            <p:nvPr/>
          </p:nvSpPr>
          <p:spPr>
            <a:xfrm>
              <a:off x="7524720" y="4221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Object 16"/>
                <p:cNvSpPr txBox="1"/>
                <p:nvPr/>
              </p:nvSpPr>
              <p:spPr>
                <a:xfrm>
                  <a:off x="7164360" y="3105000"/>
                  <a:ext cx="214200" cy="27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Line 4"/>
            <p:cNvSpPr/>
            <p:nvPr/>
          </p:nvSpPr>
          <p:spPr>
            <a:xfrm flipH="1">
              <a:off x="6443640" y="3645000"/>
              <a:ext cx="5414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5"/>
            <p:cNvSpPr/>
            <p:nvPr/>
          </p:nvSpPr>
          <p:spPr>
            <a:xfrm>
              <a:off x="6985080" y="3645000"/>
              <a:ext cx="900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6"/>
            <p:cNvSpPr/>
            <p:nvPr/>
          </p:nvSpPr>
          <p:spPr>
            <a:xfrm flipV="1">
              <a:off x="6985080" y="2384280"/>
              <a:ext cx="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"/>
            <p:cNvSpPr/>
            <p:nvPr/>
          </p:nvSpPr>
          <p:spPr>
            <a:xfrm>
              <a:off x="7421400" y="2651040"/>
              <a:ext cx="1513080" cy="14684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7020000" y="3645000"/>
              <a:ext cx="1332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H="1" flipV="1">
              <a:off x="7848360" y="3465000"/>
              <a:ext cx="468360" cy="2876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 flipV="1">
              <a:off x="7885080" y="2997360"/>
              <a:ext cx="216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 flipH="1" flipV="1">
              <a:off x="8135640" y="2997000"/>
              <a:ext cx="18108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2"/>
            <p:cNvSpPr/>
            <p:nvPr/>
          </p:nvSpPr>
          <p:spPr>
            <a:xfrm>
              <a:off x="8028000" y="274464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8280360" y="2133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V="1">
              <a:off x="6985080" y="2997000"/>
              <a:ext cx="1116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18"/>
                <p:cNvSpPr txBox="1"/>
                <p:nvPr/>
              </p:nvSpPr>
              <p:spPr>
                <a:xfrm>
                  <a:off x="7416720" y="3730680"/>
                  <a:ext cx="24624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21"/>
                <p:cNvSpPr txBox="1"/>
                <p:nvPr/>
              </p:nvSpPr>
              <p:spPr>
                <a:xfrm>
                  <a:off x="8280360" y="3105000"/>
                  <a:ext cx="26532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Text Box 22"/>
            <p:cNvSpPr/>
            <p:nvPr/>
          </p:nvSpPr>
          <p:spPr>
            <a:xfrm>
              <a:off x="7596360" y="3284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Object 23"/>
                <p:cNvSpPr txBox="1"/>
                <p:nvPr/>
              </p:nvSpPr>
              <p:spPr>
                <a:xfrm>
                  <a:off x="7236000" y="2492280"/>
                  <a:ext cx="30924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Object 24"/>
                <p:cNvSpPr txBox="1"/>
                <p:nvPr/>
              </p:nvSpPr>
              <p:spPr>
                <a:xfrm>
                  <a:off x="8101080" y="4113360"/>
                  <a:ext cx="5396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cxnSp>
          <p:nvCxnSpPr>
            <p:cNvPr id="192" name="AutoShape 26"/>
            <p:cNvCxnSpPr>
              <a:endCxn id="193" idx="0"/>
            </p:cNvCxnSpPr>
            <p:nvPr/>
          </p:nvCxnSpPr>
          <p:spPr>
            <a:xfrm flipH="1" rot="10800000">
              <a:off x="8100720" y="3609360"/>
              <a:ext cx="2160" cy="702360"/>
            </a:xfrm>
            <a:prstGeom prst="bentConnector4">
              <a:avLst>
                <a:gd name="adj1" fmla="val -5600000"/>
                <a:gd name="adj2" fmla="val 67846"/>
              </a:avLst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</p:cxnSp>
        <p:sp>
          <p:nvSpPr>
            <p:cNvPr id="194" name="Line 28"/>
            <p:cNvSpPr/>
            <p:nvPr/>
          </p:nvSpPr>
          <p:spPr>
            <a:xfrm flipH="1" flipV="1">
              <a:off x="8101080" y="3608280"/>
              <a:ext cx="179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" name="AutoShape 31"/>
            <p:cNvCxnSpPr>
              <a:endCxn id="196" idx="0"/>
            </p:cNvCxnSpPr>
            <p:nvPr/>
          </p:nvCxnSpPr>
          <p:spPr>
            <a:xfrm>
              <a:off x="7559640" y="2673000"/>
              <a:ext cx="434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7" name="Line 32"/>
            <p:cNvSpPr/>
            <p:nvPr/>
          </p:nvSpPr>
          <p:spPr>
            <a:xfrm flipV="1">
              <a:off x="7885080" y="3249360"/>
              <a:ext cx="108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5"/>
            <p:cNvSpPr/>
            <p:nvPr/>
          </p:nvSpPr>
          <p:spPr>
            <a:xfrm>
              <a:off x="7128000" y="2168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6"/>
            <p:cNvSpPr/>
            <p:nvPr/>
          </p:nvSpPr>
          <p:spPr>
            <a:xfrm>
              <a:off x="8317080" y="2744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44"/>
            <p:cNvSpPr/>
            <p:nvPr/>
          </p:nvSpPr>
          <p:spPr>
            <a:xfrm>
              <a:off x="835200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REDIŠTE MASE TELA I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920" y="1591920"/>
            <a:ext cx="6158160" cy="37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REDIŠTE SISTEMA MAT.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7"/>
          <p:cNvSpPr/>
          <p:nvPr/>
        </p:nvSpPr>
        <p:spPr>
          <a:xfrm>
            <a:off x="900000" y="2276640"/>
            <a:ext cx="51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8"/>
              <p:cNvSpPr txBox="1"/>
              <p:nvPr/>
            </p:nvSpPr>
            <p:spPr>
              <a:xfrm>
                <a:off x="934920" y="2276640"/>
                <a:ext cx="4465800" cy="19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S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5" name="Text Box 40"/>
          <p:cNvSpPr/>
          <p:nvPr/>
        </p:nvSpPr>
        <p:spPr>
          <a:xfrm>
            <a:off x="863640" y="425772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 definiciji moment mase prvog reda za središte mase jednak je nu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1"/>
          <p:cNvSpPr/>
          <p:nvPr/>
        </p:nvSpPr>
        <p:spPr>
          <a:xfrm>
            <a:off x="1008000" y="533700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2"/>
              <p:cNvSpPr txBox="1"/>
              <p:nvPr/>
            </p:nvSpPr>
            <p:spPr>
              <a:xfrm>
                <a:off x="826920" y="4976640"/>
                <a:ext cx="47898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m</m:t>
                            </m:r>
                            <m:r>
                              <m:t xml:space="preserve">;</m:t>
                            </m:r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Text Box 15"/>
          <p:cNvSpPr/>
          <p:nvPr/>
        </p:nvSpPr>
        <p:spPr>
          <a:xfrm>
            <a:off x="8101080" y="486900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46"/>
          <p:cNvGrpSpPr/>
          <p:nvPr/>
        </p:nvGrpSpPr>
        <p:grpSpPr>
          <a:xfrm>
            <a:off x="6264360" y="2457360"/>
            <a:ext cx="2663640" cy="3103560"/>
            <a:chOff x="6264360" y="2457360"/>
            <a:chExt cx="2663640" cy="3103560"/>
          </a:xfrm>
        </p:grpSpPr>
        <p:sp>
          <p:nvSpPr>
            <p:cNvPr id="210" name="Text Box 18"/>
            <p:cNvSpPr/>
            <p:nvPr/>
          </p:nvSpPr>
          <p:spPr>
            <a:xfrm>
              <a:off x="8064360" y="3429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20"/>
                <p:cNvSpPr txBox="1"/>
                <p:nvPr/>
              </p:nvSpPr>
              <p:spPr>
                <a:xfrm>
                  <a:off x="8064360" y="4292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4"/>
            <p:cNvSpPr/>
            <p:nvPr/>
          </p:nvSpPr>
          <p:spPr>
            <a:xfrm flipH="1">
              <a:off x="6264360" y="4689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6948360" y="4689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 flipV="1">
              <a:off x="6948360" y="3284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8064360" y="4724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9"/>
            <p:cNvSpPr/>
            <p:nvPr/>
          </p:nvSpPr>
          <p:spPr>
            <a:xfrm>
              <a:off x="7343640" y="3789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0"/>
            <p:cNvSpPr/>
            <p:nvPr/>
          </p:nvSpPr>
          <p:spPr>
            <a:xfrm>
              <a:off x="8064360" y="2924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1"/>
            <p:cNvSpPr/>
            <p:nvPr/>
          </p:nvSpPr>
          <p:spPr>
            <a:xfrm>
              <a:off x="8496360" y="3933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>
              <a:off x="7993080" y="4221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V="1">
              <a:off x="7993080" y="4076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 flipV="1">
              <a:off x="7488360" y="3933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6"/>
            <p:cNvSpPr/>
            <p:nvPr/>
          </p:nvSpPr>
          <p:spPr>
            <a:xfrm>
              <a:off x="7775640" y="2457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7056360" y="3357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7885080" y="3753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Object 22"/>
                <p:cNvSpPr txBox="1"/>
                <p:nvPr/>
              </p:nvSpPr>
              <p:spPr>
                <a:xfrm>
                  <a:off x="7667640" y="3753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Line 24"/>
            <p:cNvSpPr/>
            <p:nvPr/>
          </p:nvSpPr>
          <p:spPr>
            <a:xfrm>
              <a:off x="6948360" y="4689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5"/>
            <p:cNvSpPr/>
            <p:nvPr/>
          </p:nvSpPr>
          <p:spPr>
            <a:xfrm flipV="1">
              <a:off x="6985080" y="4220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26"/>
                <p:cNvSpPr txBox="1"/>
                <p:nvPr/>
              </p:nvSpPr>
              <p:spPr>
                <a:xfrm>
                  <a:off x="7559640" y="4761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27"/>
                <p:cNvSpPr txBox="1"/>
                <p:nvPr/>
              </p:nvSpPr>
              <p:spPr>
                <a:xfrm>
                  <a:off x="7272360" y="4149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Line 28"/>
            <p:cNvSpPr/>
            <p:nvPr/>
          </p:nvSpPr>
          <p:spPr>
            <a:xfrm>
              <a:off x="7416720" y="3897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9"/>
            <p:cNvSpPr/>
            <p:nvPr/>
          </p:nvSpPr>
          <p:spPr>
            <a:xfrm>
              <a:off x="8204040" y="4064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0"/>
            <p:cNvSpPr/>
            <p:nvPr/>
          </p:nvSpPr>
          <p:spPr>
            <a:xfrm flipV="1">
              <a:off x="7416720" y="2997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1"/>
            <p:cNvSpPr/>
            <p:nvPr/>
          </p:nvSpPr>
          <p:spPr>
            <a:xfrm>
              <a:off x="8136000" y="2997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2"/>
            <p:cNvSpPr/>
            <p:nvPr/>
          </p:nvSpPr>
          <p:spPr>
            <a:xfrm>
              <a:off x="6443640" y="5192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3"/>
            <p:cNvSpPr/>
            <p:nvPr/>
          </p:nvSpPr>
          <p:spPr>
            <a:xfrm>
              <a:off x="7667640" y="5157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4"/>
            <p:cNvSpPr/>
            <p:nvPr/>
          </p:nvSpPr>
          <p:spPr>
            <a:xfrm>
              <a:off x="7056360" y="29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35"/>
                <p:cNvSpPr txBox="1"/>
                <p:nvPr/>
              </p:nvSpPr>
              <p:spPr>
                <a:xfrm>
                  <a:off x="8126280" y="3789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Line 43"/>
            <p:cNvSpPr/>
            <p:nvPr/>
          </p:nvSpPr>
          <p:spPr>
            <a:xfrm flipV="1">
              <a:off x="6948360" y="3968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4"/>
                <p:cNvSpPr txBox="1"/>
                <p:nvPr/>
              </p:nvSpPr>
              <p:spPr>
                <a:xfrm>
                  <a:off x="6994440" y="3924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781200" y="1484280"/>
          <a:ext cx="542124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484280"/>
                    <a:ext cx="542124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6"/>
          <p:cNvSpPr/>
          <p:nvPr/>
        </p:nvSpPr>
        <p:spPr>
          <a:xfrm>
            <a:off x="3048120" y="4495680"/>
            <a:ext cx="279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β=β(t)- si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taje nestaciona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8"/>
          <p:cNvGraphicFramePr/>
          <p:nvPr/>
        </p:nvGraphicFramePr>
        <p:xfrm>
          <a:off x="6084720" y="1484280"/>
          <a:ext cx="2778120" cy="489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1484280"/>
                    <a:ext cx="27781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685800" y="1471680"/>
                <a:ext cx="61722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- veza je neintegrabil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 je neholonomna-KINEMATICK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Text Box 4"/>
          <p:cNvSpPr/>
          <p:nvPr/>
        </p:nvSpPr>
        <p:spPr>
          <a:xfrm>
            <a:off x="684360" y="3068640"/>
            <a:ext cx="8229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vde pruočavamo samo holonomne ve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ka je sistem od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aterijalnih tačaka vezan sa “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 holonomnih veza datih jednačina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7"/>
          <p:cNvGraphicFramePr/>
          <p:nvPr/>
        </p:nvGraphicFramePr>
        <p:xfrm>
          <a:off x="6227640" y="1916280"/>
          <a:ext cx="2232000" cy="16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916280"/>
                    <a:ext cx="2232000" cy="16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22"/>
          <p:cNvGraphicFramePr/>
          <p:nvPr/>
        </p:nvGraphicFramePr>
        <p:xfrm>
          <a:off x="1030320" y="4487760"/>
          <a:ext cx="667692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0320" y="448776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152280" y="2438280"/>
                <a:ext cx="8763120" cy="25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/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je broj linearno nezavisnih vez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Text Box 6"/>
          <p:cNvSpPr/>
          <p:nvPr/>
        </p:nvSpPr>
        <p:spPr>
          <a:xfrm>
            <a:off x="609480" y="16002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 gornjih jednačina je nezavistan, ako je rang Jakobijeve matrice jednak r, odnos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914400" y="52578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=3N-r – je broj stepeni slobode kretanja u tom sluča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914400" y="5638680"/>
                <a:ext cx="19810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groupChr>
                          </m:e>
                          <m:lim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avisnih</m:t>
                            </m:r>
                          </m:lim>
                        </m:limLow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underbracealignl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eqAr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nezavisnih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914400" y="22096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zavisno promenljive generalisane koordin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914400" y="1600200"/>
                <a:ext cx="31687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914400" y="2590920"/>
                <a:ext cx="609912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ξ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⇒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09480" y="1600200"/>
                <a:ext cx="4496040" cy="41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tg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/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6095880" y="4876920"/>
                <a:ext cx="24386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0" name="Object 9"/>
          <p:cNvGraphicFramePr/>
          <p:nvPr/>
        </p:nvGraphicFramePr>
        <p:xfrm>
          <a:off x="5219640" y="1557360"/>
          <a:ext cx="331164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557360"/>
                    <a:ext cx="331164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1362240" y="1979640"/>
          <a:ext cx="7102440" cy="42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1979640"/>
                    <a:ext cx="7102440" cy="42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5"/>
          <p:cNvSpPr/>
          <p:nvPr/>
        </p:nvSpPr>
        <p:spPr>
          <a:xfrm>
            <a:off x="7315200" y="59436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UBRZ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1393920" y="2138400"/>
          <a:ext cx="559260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2138400"/>
                    <a:ext cx="55926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4"/>
          <p:cNvSpPr/>
          <p:nvPr/>
        </p:nvSpPr>
        <p:spPr>
          <a:xfrm>
            <a:off x="838080" y="14479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stacionarni (skleronoman) si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efinici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irtuelna pomeranja su zamišljena beskonačno mala pomeranja dopuštena vez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f(x,y,z,t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x=x(t);y=y(t);z=z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300720" y="3789360"/>
            <a:ext cx="12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651640" y="4149720"/>
            <a:ext cx="165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 flipV="1">
            <a:off x="6300720" y="414936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 flipH="1">
            <a:off x="5724000" y="5516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6300720" y="5516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5"/>
          <p:cNvSpPr/>
          <p:nvPr/>
        </p:nvSpPr>
        <p:spPr>
          <a:xfrm>
            <a:off x="6645240" y="4102200"/>
            <a:ext cx="1627200" cy="10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7"/>
          <p:cNvSpPr/>
          <p:nvPr/>
        </p:nvSpPr>
        <p:spPr>
          <a:xfrm>
            <a:off x="7162920" y="4305240"/>
            <a:ext cx="711000" cy="165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8"/>
          <p:cNvSpPr/>
          <p:nvPr/>
        </p:nvSpPr>
        <p:spPr>
          <a:xfrm>
            <a:off x="7885080" y="4437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9"/>
          <p:cNvSpPr/>
          <p:nvPr/>
        </p:nvSpPr>
        <p:spPr>
          <a:xfrm>
            <a:off x="7380360" y="42210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 flipH="1" flipV="1">
            <a:off x="7451640" y="4292280"/>
            <a:ext cx="43344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9567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730872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7380360" y="4869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f(x,y,z,t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25"/>
          <p:cNvCxnSpPr>
            <a:stCxn id="97" idx="21"/>
            <a:endCxn id="104" idx="2"/>
          </p:cNvCxnSpPr>
          <p:nvPr/>
        </p:nvCxnSpPr>
        <p:spPr>
          <a:xfrm flipH="1" flipV="1" rot="10800000">
            <a:off x="7048080" y="4634280"/>
            <a:ext cx="1053360" cy="600840"/>
          </a:xfrm>
          <a:prstGeom prst="curvedConnector5">
            <a:avLst>
              <a:gd name="adj1" fmla="val -60000"/>
              <a:gd name="adj2" fmla="val 69004"/>
              <a:gd name="adj3" fmla="val -6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Text Box 26"/>
          <p:cNvSpPr/>
          <p:nvPr/>
        </p:nvSpPr>
        <p:spPr>
          <a:xfrm>
            <a:off x="5651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8331120" y="53737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637236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06T07:53:43Z</dcterms:modified>
  <cp:revision>404</cp:revision>
  <dc:subject/>
  <dc:title>ТЕХНИЧКА МЕХАНИКА 2</dc:title>
</cp:coreProperties>
</file>